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12.png" ContentType="image/png"/>
  <Override PartName="/ppt/media/image34.jpeg" ContentType="image/jpeg"/>
  <Override PartName="/ppt/media/image5.jpeg" ContentType="image/jpeg"/>
  <Override PartName="/ppt/media/image7.png" ContentType="image/png"/>
  <Override PartName="/ppt/media/image62.jpeg" ContentType="image/jpeg"/>
  <Override PartName="/ppt/media/image32.jpeg" ContentType="image/jpeg"/>
  <Override PartName="/ppt/media/image4.jpeg" ContentType="image/jpeg"/>
  <Override PartName="/ppt/media/image61.jpeg" ContentType="image/jpeg"/>
  <Override PartName="/ppt/media/image2.wmf" ContentType="image/x-wmf"/>
  <Override PartName="/ppt/media/image37.jpeg" ContentType="image/jpeg"/>
  <Override PartName="/ppt/media/image3.jpeg" ContentType="image/jpeg"/>
  <Override PartName="/ppt/media/image15.png" ContentType="image/png"/>
  <Override PartName="/ppt/media/image19.wmf" ContentType="image/x-wmf"/>
  <Override PartName="/ppt/media/image60.jpeg" ContentType="image/jpeg"/>
  <Override PartName="/ppt/media/image21.wmf" ContentType="image/x-wmf"/>
  <Override PartName="/ppt/media/image63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1.png" ContentType="image/png"/>
  <Override PartName="/ppt/media/image22.wmf" ContentType="image/x-wmf"/>
  <Override PartName="/ppt/media/image29.jpeg" ContentType="image/jpeg"/>
  <Override PartName="/ppt/media/image24.wmf" ContentType="image/x-wmf"/>
  <Override PartName="/ppt/media/image28.jpeg" ContentType="image/jpeg"/>
  <Override PartName="/ppt/media/image51.jpeg" ContentType="image/jpeg"/>
  <Override PartName="/ppt/media/image67.jpeg" ContentType="image/jpeg"/>
  <Override PartName="/ppt/media/image26.wmf" ContentType="image/x-wmf"/>
  <Override PartName="/ppt/media/image46.jpeg" ContentType="image/jpeg"/>
  <Override PartName="/ppt/media/image14.png" ContentType="image/png"/>
  <Override PartName="/ppt/media/image66.jpeg" ContentType="image/jpeg"/>
  <Override PartName="/ppt/media/image16.wmf" ContentType="image/x-wmf"/>
  <Override PartName="/ppt/media/image45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17.wmf" ContentType="image/x-wmf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23.wmf" ContentType="image/x-wmf"/>
  <Override PartName="/ppt/media/image41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25.wmf" ContentType="image/x-wmf"/>
  <Override PartName="/ppt/media/image4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F54-EA33-4B88-B9A1-07F30BC5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AFD-C1B4-4FA6-834B-C887ACB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636-E8A7-40BD-A3D0-1ABC5356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14C-5590-42AF-A095-BBE032B3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5B23-9249-4942-BB43-E3988EC3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11E3-632B-47D5-AFEA-E3759A2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FDCF-9F52-460F-8A17-F497CA86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C90-20FF-45D2-AAE9-620916E5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3B4-2940-42F7-ACC9-F8061EB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15C6-AD19-4FAB-9EB4-BA67E75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211-A546-46F2-B11F-0656993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123-638F-4ED5-848A-B753555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60D-C218-4505-BF78-A40B592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43B4-426D-4DCB-848F-E03240C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01E-6C09-4DC7-96BD-5072E48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B4C-B197-4077-A510-49BDEDAE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54C5-83A6-4AC2-92D4-8F998609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AC0-8722-424E-A6CD-4CA3A1FA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3C1-B72B-41FB-8256-9AB36C1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430-95EB-4F64-95A1-66098AF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3B6-5099-4708-88B2-CE6E580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6A8-8E97-447F-BC44-420F0E0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98B-E6A9-428F-BCAF-BEED0C7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426-6E22-44F7-9FF5-6EB2B8F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76EA-015E-41B7-A47C-AC9B5E267971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BF5E-B989-4EE8-84EF-AB986591E1B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9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26920" y="4005360"/>
            <a:ext cx="7561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ject 26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127620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j0240719"/>
          <p:cNvPicPr/>
          <p:nvPr/>
        </p:nvPicPr>
        <p:blipFill>
          <a:blip r:embed="rId2"/>
          <a:stretch/>
        </p:blipFill>
        <p:spPr>
          <a:xfrm>
            <a:off x="179280" y="2997360"/>
            <a:ext cx="2340000" cy="3528720"/>
          </a:xfrm>
          <a:prstGeom prst="rect">
            <a:avLst/>
          </a:prstGeom>
          <a:ln w="0">
            <a:noFill/>
          </a:ln>
        </p:spPr>
      </p:pic>
      <p:sp>
        <p:nvSpPr>
          <p:cNvPr id="215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363-67D4-4131-BE07-63DA573F156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Текстовое поле 99"/>
          <p:cNvSpPr/>
          <p:nvPr/>
        </p:nvSpPr>
        <p:spPr>
          <a:xfrm>
            <a:off x="2031840" y="1998720"/>
            <a:ext cx="50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imes New Roman"/>
                <a:ea typeface="SimSun"/>
              </a:rPr>
              <a:t>Оказание первой помощ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лгоритм действий в оказании первой медицинской помощи на месте происшеств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79280" y="119700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 и нет пульса на сонной артерии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ступить к реаним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10-1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79280" y="2276640"/>
            <a:ext cx="8785440" cy="1079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ет сознания, но есть пульс на сонной артерии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рнуть на живот и очистить ротовую пол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9280" y="3500280"/>
            <a:ext cx="87854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 артериальном кровотечении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жг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79280" y="4581360"/>
            <a:ext cx="878544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личии ран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: 30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79280" y="5589720"/>
            <a:ext cx="878544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Если есть признаки переломов костей конечност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ложить транспортные шин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280880" y="64008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е правило – не причинить бо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519-FFCB-4F62-94E7-7FFC8529CE1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-360" y="2060280"/>
            <a:ext cx="525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посо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анимационн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роприят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630600" cy="525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B1C-975B-4E53-B57A-0863E243D40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95280" y="333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клин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2360" y="1989000"/>
            <a:ext cx="8569440" cy="4543920"/>
          </a:xfrm>
          <a:prstGeom prst="rect">
            <a:avLst/>
          </a:pr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 биологической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чувствительности на болевые и термические раздраж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рвотного 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фоторефлек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утнение и высыхание роговицы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давливании глаза пальцами с боков, зрачок суживается и напоминает «кошачий глаз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ж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ение трупных пятен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ичие трупного окоченения (через 2-3 часа после смер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B15-F25B-428D-8441-BAA39400986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250920" y="692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4000" y="2060640"/>
            <a:ext cx="856908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Восстановление проходимости дыхательных пут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Проведение искусственного дыхания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Каллистову «изо рта в рот» или «изо рта в нос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Проведение закрытого (непрямого) массажа сердц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F76-D636-4283-AF4B-DBDE11901B7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4067280" y="1197000"/>
            <a:ext cx="4800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ложите пострадавшего на спину на твердую поверх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кройте дыхательные п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рокиньте голову назад и приподнимите подбород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авите рукой на лоб и выдвиньте нижнюю челю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рьте наличие 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D3EE-E730-4001-ABB1-F6F44D91C80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431640" y="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сстановление проходимости дыхательных пу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4067280" y="5084640"/>
            <a:ext cx="4825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пределения наличия дыхания используйте зрительный, слуховой и осязательный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в течение 5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529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744720" cy="2663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4140360" y="1773360"/>
            <a:ext cx="5003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делайте 2 полных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дувания «изо рта в ро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жмите ноздри пострадавше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тно обхватите губами рот  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ите за поднятием грудной клетки, чтобы убедиться, что воздух проходит в лег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F3D-3639-4ACD-9BD3-428201A0AB7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40328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кусственное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250920" y="3998880"/>
            <a:ext cx="37447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51000" cy="2896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"/>
          <p:cNvSpPr/>
          <p:nvPr/>
        </p:nvSpPr>
        <p:spPr>
          <a:xfrm>
            <a:off x="3456000" y="404640"/>
            <a:ext cx="56880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йдите правильное по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ля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пальцами углубление на нижнем крае грудины и держите свои два пальца в этом ме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ите основание ладони другой руки на грудину выше того места, где расположены паль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нимите пальцы с углубления и положите ладонь первой руки поверх другой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касайтесь пальцами грудной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096-7218-4C45-AC25-E7E46CE6D41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024000" cy="3309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3500280" y="1341360"/>
            <a:ext cx="5643720" cy="4753800"/>
          </a:xfrm>
          <a:prstGeom prst="rect">
            <a:avLst/>
          </a:prstGeom>
          <a:noFill/>
          <a:ln w="9360">
            <a:solidFill>
              <a:srgbClr val="006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делайте 30 надавливаний на грудину на глубину от 4 до 5 см и частотой от 80 до 100 надавливаний в минут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оведении надавливаний плечи спасателя должны находиться над его тело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оизводите надавливания плавно по вертикальной прямой, постоянно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удерживая руки на грудин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ежде чем начинать следующее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адавливание, дайте грудной клетке 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дняться в исходное положени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2D4B-49BF-4C79-87AE-DA4FD4CC062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прямо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вая помощь при остановке сердца: прове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ердечно-легочной реанимации дл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304920" y="2997360"/>
            <a:ext cx="3043080" cy="3144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250920" y="990720"/>
            <a:ext cx="86421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мотрите место происшествия, чтобы убедиться в отсутствии опасности и выяснить, что случило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первичный осмо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564000" y="2492280"/>
            <a:ext cx="525600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ите наличие сознания 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омко спросите: "Вам нужна помощь?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лопайте в ладо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жмите трапециевидную мышц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635280" y="5823000"/>
            <a:ext cx="5257800" cy="102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острадавший без созн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торожно переверните пострадавшего на спину (только, если необходим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18B-EDA9-45EE-9017-442459A54AA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3246480" cy="297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213360" cy="2927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4140360" y="2349360"/>
            <a:ext cx="464796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верьте наличие пуль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щупайте адамово яблоко (кады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местите пальцы в углубление на шее со стороны, расположенной ближе к 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067280" y="692280"/>
            <a:ext cx="4647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овите скорую помощь или пошлите кого-нибудь вызвать скорую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11640" y="5597640"/>
            <a:ext cx="4648320" cy="126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ульс у пострадавшего не опреде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ходите к сердечно-легочной реани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Номер слайда 6"/>
          <p:cNvSpPr/>
          <p:nvPr/>
        </p:nvSpPr>
        <p:spPr>
          <a:xfrm>
            <a:off x="680400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9C7-7B06-4216-A7F2-8654398510F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8066160" cy="62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 ч е б н ы е   в о п р о с 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1280" y="1988640"/>
            <a:ext cx="82087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равила и порядок оказания первой помощи себе и пострадавш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авила проведения реанимационных меропри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Первая помощь при кровотечениях и ран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рвая помощь при перело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ервая помощь при химических и термических ожогах, поражении электрическим т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B79-46CE-4DD6-9539-9E089E3ED34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2687760" cy="265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304920" y="335772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2987640" y="1341360"/>
            <a:ext cx="615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делайте 2 полных вдувания «изо рта в ро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059280" y="5805360"/>
            <a:ext cx="6084720" cy="82404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торяйте цик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вдувания и 30 компрессий на груд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F6D-21EB-41D8-B876-6A4CA0FA43C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3132000" y="407664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ите 30 надавливаний на грудную  кл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3203640" y="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нимационные меропри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32000" cy="2817720"/>
          </a:xfrm>
          <a:prstGeom prst="rect">
            <a:avLst/>
          </a:prstGeom>
          <a:ln w="0">
            <a:noFill/>
          </a:ln>
        </p:spPr>
      </p:pic>
      <p:sp>
        <p:nvSpPr>
          <p:cNvPr id="338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5D9-46AB-4A26-9004-E60136ECA274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643280" y="2133720"/>
            <a:ext cx="4321440" cy="1603080"/>
          </a:xfrm>
          <a:prstGeom prst="rect">
            <a:avLst/>
          </a:pr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вторно проверьте наличие пульса и дых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щупывайте пульс в течение 10  сек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826920" y="4653000"/>
            <a:ext cx="712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кровотечениях и ран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492880" cy="3016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42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677-2CB8-421C-80CC-8AACFDB425A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395280" y="26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D906-DCE3-4F10-9E2C-F93852778CA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EE5-246A-4403-80B3-72ADEC54C1D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C6A1-C29F-49FA-8C50-247DAF527CB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0" y="765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сификация ран п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 характеру повреждения тк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ез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рубл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шиблен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куше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кальпиро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гнестрель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инно-взры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CC57-5257-4BBA-B8F8-AD1A620D551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вая помощь при ране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519-9914-4B31-A3D6-49F64C9011E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395280" y="1628640"/>
            <a:ext cx="84247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сти противошоковые меро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ботать кожу вокруг 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ожить стерильную повязку и закрепить 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бол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скорую медицинскую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авить  пострадавшего в мед. учре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ивать разговор с пострадав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62120" y="762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419640" y="5246640"/>
            <a:ext cx="4824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560" rIns="81108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44944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58" name="Rectangle 6"/>
          <p:cNvSpPr/>
          <p:nvPr/>
        </p:nvSpPr>
        <p:spPr>
          <a:xfrm>
            <a:off x="3059280" y="127512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рем бинт или многократно сложенную чистую ткань (например, чистый носовой платок). Прижимаем к ране, чтобы ткань, пропитавшись кровью, преградила воздуху доступ в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411280" cy="1957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60" name="Rectangle 8"/>
          <p:cNvSpPr/>
          <p:nvPr/>
        </p:nvSpPr>
        <p:spPr>
          <a:xfrm>
            <a:off x="2916360" y="47628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нение мягких тканей голо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2987640" y="4581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фиксируем этот тампон шапкой или косынко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равляем пациента к вра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5A7-6CFF-4832-8FAB-FFBD419DF88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708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ы на ше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47600" cy="623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5" name="Rectangle 7"/>
          <p:cNvSpPr/>
          <p:nvPr/>
        </p:nvSpPr>
        <p:spPr>
          <a:xfrm>
            <a:off x="2700360" y="699120"/>
            <a:ext cx="611964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пострадавшего, чтобы он не потерял сознание. Прижмем его рану пальц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 палец подкладываем тампон (многослойную ткань или головку бинта), чтобы загерметизировать ра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зываем "скорую помощь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ногда не обойтись без жгута, чтобы зафиксировать тамп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лаблять жгут нельзя ни на секунду. Чтобы он смог продержаться несколько часов, лучше пропустить его под мыш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736C-7F12-4608-AC0D-1E11E2773FD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260280"/>
            <a:ext cx="8424720" cy="62578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Федеральный закон от 21.12.1994 №68 – ФЗ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«О защите населения и территорий от чрезвычайных ситуаций природного и техногенного характер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ед. от 15.02.201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Статье 19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Гражданин Российской Федерации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обязан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изучить основные способы защиты населения и территорий от чрезвычайных ситуаций, приёмы оказания первой медицинской помощи пострадавшим, правила пользования коллективными и индивидуальными средствами защит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 постоянно совершенствовать свои знания и навыки в указанной облас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232-5193-4F0B-AC14-82054071B94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4824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живаем пострадавшего, прижимаем erо рану рукой, затем залепливаем пластырем или ско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402000" cy="2067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616040" cy="174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0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9645-A0DC-4502-AD0E-C840423BBE1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35600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е гру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7"/>
          <p:cNvSpPr/>
          <p:nvPr/>
        </p:nvSpPr>
        <p:spPr>
          <a:xfrm>
            <a:off x="2627280" y="4076640"/>
            <a:ext cx="60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сли из раны (в груди или живете) торчит посторонний предмет, то трогать erо нельз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бы он не шевелился в ране, зафиксируем его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двумя скатками бинтов и прикрепим их к коже пластырем или скетч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нения живо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638520" cy="3230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8244000" y="4076640"/>
            <a:ext cx="838080" cy="172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76" name="Rectangle 9"/>
          <p:cNvSpPr/>
          <p:nvPr/>
        </p:nvSpPr>
        <p:spPr>
          <a:xfrm>
            <a:off x="324000" y="25689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3924360" y="1553760"/>
            <a:ext cx="4105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рываем рану чистой салфетк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епляем ее на коже пластырем или скотч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ху кладем хол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льзя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ать пострадавшему пить или предлагать ему обезболиваю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посторонний предмет, если тот торчит в 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огать внутренности, если те вываливаются наруж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324000" y="76500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о уложить пострадавшего на спину, приподняв ему колени и расстегнув поясной рем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315-AD57-426F-B675-ADAD75975C3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адим или уложим пациента, чтобы рана оказалась выше уровня его груди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195280" y="1268280"/>
            <a:ext cx="24476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неную руку пациента положим себе на плечо. Наложим жгут на артерию выше 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753920" cy="2171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2524320" cy="1816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4" name=""/>
          <p:cNvGraphicFramePr/>
          <p:nvPr/>
        </p:nvGraphicFramePr>
        <p:xfrm>
          <a:off x="-1409760" y="-279360"/>
          <a:ext cx="208080" cy="3222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22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496960" y="3718080"/>
          <a:ext cx="2724120" cy="3139920"/>
        </p:xfrm>
        <a:graphic>
          <a:graphicData uri="http://schemas.openxmlformats.org/drawingml/2006/table">
            <a:tbl>
              <a:tblPr/>
              <a:tblGrid>
                <a:gridCol w="2724120"/>
              </a:tblGrid>
              <a:tr h="314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ладываем на рану стерильную повязку,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ем обезболивающе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жгуту прикрепим записку о времени его наложения. Еще раз проверяем пульс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ксируем руку косынко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Rectangle 28"/>
          <p:cNvSpPr/>
          <p:nvPr/>
        </p:nvSpPr>
        <p:spPr>
          <a:xfrm>
            <a:off x="5172120" y="300024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убедимся, что нет пульса на лучевой арт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-1409760" y="-2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985760" cy="201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graphicFrame>
        <p:nvGraphicFramePr>
          <p:cNvPr id="389" name=""/>
          <p:cNvGraphicFramePr/>
          <p:nvPr/>
        </p:nvGraphicFramePr>
        <p:xfrm>
          <a:off x="-1409760" y="5211720"/>
          <a:ext cx="208080" cy="1496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496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44"/>
          <p:cNvSpPr/>
          <p:nvPr/>
        </p:nvSpPr>
        <p:spPr>
          <a:xfrm>
            <a:off x="5364000" y="3970440"/>
            <a:ext cx="3527640" cy="2533320"/>
          </a:xfrm>
          <a:prstGeom prst="rect">
            <a:avLst/>
          </a:prstGeom>
          <a:solidFill>
            <a:srgbClr val="ff5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имание: до прибытия "скорой помощи" жгут придется снимать каждые 30 минут! Дожидаемся, пока кровь опять пойдет обильно и кожа порозовеет. Затем опять накладываем ж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157E-41EC-406F-AC0A-9D65194C1B3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3"/>
          <p:cNvSpPr/>
          <p:nvPr/>
        </p:nvSpPr>
        <p:spPr>
          <a:xfrm>
            <a:off x="250920" y="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льное кровотечение из раны на руке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000" y="393336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жимаем бедренную артерию кулаком ниже паховой скл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жгут на бедро через гладкий твердый предмет (например, головку бин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кладываем на рану стерильную повязку, даем обезболивающее. К жгуту прикрепим записку с временем erо на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61080" cy="1852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95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9E3-AE1F-405A-BCE9-3423197766E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1332000" y="476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ровотечение из бед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5008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9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9E8-F450-486F-AAD4-92FFE83405C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0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FDD-69B4-4427-902B-EE828AA3DE0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318960" y="333360"/>
            <a:ext cx="850104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E719-69E2-491F-9437-6DD2818102DF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E404-3E99-47B1-AC97-C2210704F435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70800" cy="604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0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DE5-3672-43D0-8FB9-1044026ADEB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1042920" y="2708280"/>
            <a:ext cx="7128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вая помощь при перелом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676A-45A3-4D05-86C3-8F8F814FE59B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46836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24000" y="333360"/>
            <a:ext cx="8569080" cy="6279480"/>
          </a:xfrm>
          <a:prstGeom prst="rect">
            <a:avLst/>
          </a:prstGeom>
          <a:noFill/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дерального закона от 21.11.2011 №323-Ф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б основах охраны здоровья граждан в Российской Федера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13.07.20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Статья 31. </a:t>
            </a:r>
            <a:r>
              <a:rPr b="1" i="1" lang="ru-RU" sz="2300" spc="-1" strike="noStrike">
                <a:solidFill>
                  <a:srgbClr val="ff9900"/>
                </a:solidFill>
                <a:latin typeface="Arial"/>
              </a:rPr>
              <a:t>Первая помощь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П осуществл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ица, обязанные оказывать ее и имеющие соответствующую подготов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 органов внутренних дел Р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трудники, военнослужащие и работники Государственной противопожарной служб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асатели аварийно-спасательных формирований и аварийно-спасательных служ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дители транспортных средств и др. лица, имеющие  соответствующую подготовку и (или) навы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094-2F23-42B3-B19F-865AE27F0F1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4F53-47D2-472C-998A-B4914BC0B37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EF4-EEE3-4F41-A9C0-98061EF9037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ABB-6579-4308-A3BC-28838CF3FFA1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17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78D-4AE4-4C7C-8D04-5454BD2BF45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250920" y="784080"/>
            <a:ext cx="8713800" cy="5305680"/>
          </a:xfrm>
          <a:prstGeom prst="rect">
            <a:avLst/>
          </a:prstGeom>
          <a:ln w="0">
            <a:noFill/>
          </a:ln>
        </p:spPr>
      </p:pic>
      <p:sp>
        <p:nvSpPr>
          <p:cNvPr id="419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510-830D-41F6-9A16-6721B89840B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BD5-095C-48AC-AA63-29EB25961C80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69080" cy="5487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42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F346-0636-4898-9DAA-5262BEAB23E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9560" cy="38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азание первой помощи при термических и химических ожогах, поражении электрическим ток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1D3-E240-4985-B318-32AEBB78D95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161928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епени термических ожог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68360" y="1052640"/>
            <a:ext cx="8280360" cy="2954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верхностны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степень – боль, покраснение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степень – боль, покраснение кожи, отек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468360" y="4149720"/>
            <a:ext cx="828036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лубокие ож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пузыри с кровянистой жидк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п, гнойное воспа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пень – коричневые или черные струп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гливание кожи, мышц, сухожил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0C1-9EC0-4541-BE4F-D735576FB48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E7F-04FF-4495-9180-B4BE08400D22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26360" cy="79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39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порядок оказания первой помощи себе и пострадавшим при Ч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2160360" cy="2531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7" name="Picture 9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160360" cy="287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Picture 11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4"/>
          <a:stretch/>
        </p:blipFill>
        <p:spPr>
          <a:xfrm>
            <a:off x="6875640" y="2421000"/>
            <a:ext cx="2149200" cy="280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0" name="Номер слайда 7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2D7-7016-4DBA-B07E-E48BD51DAF0E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4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2F3F-9504-482E-8436-73EA28897B0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539280" y="141300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имический ожог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это ожог возникший от воздействия на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концентрированных кислот (соляная, серная, азотная, уксусная, карболовая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елочей (едкого калия, едкого натра, нашатырного спирта, негашеной извест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фосфо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некоторых солей тяжелых металлов (серебра нитрат, цинка хлори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222-B5BA-42E1-B511-3E376B0626E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7932600" cy="56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П при химических ожога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94920" y="119664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центрированными кислотами (кроме серной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в течение 15-20 минут обмыть струей холодн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рной кислотой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мыть мыльной водой, 3% раствором питьевой с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щелоча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ерхность необходимо промыть струей воды, а затем обработать 2% раствором уксусной или лимонной 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сфор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смыть сильной струей воды,  обработать 5% раствором медного купороса и закрыть стерильн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гашеной извест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бработать поверхность маслом и закрыть марлевой повяз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990-4AEE-4CE2-94D0-4B8618744EE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28720" y="1414080"/>
            <a:ext cx="797256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ктротравм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повреждение электрическим током различной степени тяжести в зависимости от характеристики тока, длительности действия тока, состояния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4394-F15B-4FDE-AC4A-C66851562168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55640" y="33336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лектрический удар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возбуждение живых тканей организма проходящим через него электрическим током сопровождающееся сокращением мыш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2F7-69AB-4278-B311-D26FA481D50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358920" y="2763720"/>
            <a:ext cx="8785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ЕПЕНИ ЭЛЕКТРИЧЕСКОГО УД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 - судорожное сокращение мышц без потери со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 - судорожное сокращение мышц  с потерей сознания, но с дыханием и работой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II - потеря сознания и нарушения сердечной деятельности и (или) дых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V - клиническая смер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5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48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49" name="Rectangle 4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1" name="Picture 13" descr=""/>
          <p:cNvPicPr/>
          <p:nvPr/>
        </p:nvPicPr>
        <p:blipFill>
          <a:blip r:embed="rId5"/>
          <a:stretch/>
        </p:blipFill>
        <p:spPr>
          <a:xfrm>
            <a:off x="250920" y="580536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2" name="Picture 14" descr=""/>
          <p:cNvPicPr/>
          <p:nvPr/>
        </p:nvPicPr>
        <p:blipFill>
          <a:blip r:embed="rId6"/>
          <a:stretch/>
        </p:blipFill>
        <p:spPr>
          <a:xfrm>
            <a:off x="4572000" y="1844640"/>
            <a:ext cx="8510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3" name="Picture 15" descr=""/>
          <p:cNvPicPr/>
          <p:nvPr/>
        </p:nvPicPr>
        <p:blipFill>
          <a:blip r:embed="rId7"/>
          <a:stretch/>
        </p:blipFill>
        <p:spPr>
          <a:xfrm>
            <a:off x="4572000" y="4724280"/>
            <a:ext cx="8510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4" name="Picture 16" descr=""/>
          <p:cNvPicPr/>
          <p:nvPr/>
        </p:nvPicPr>
        <p:blipFill>
          <a:blip r:embed="rId8"/>
          <a:stretch/>
        </p:blipFill>
        <p:spPr>
          <a:xfrm>
            <a:off x="4572000" y="2852640"/>
            <a:ext cx="863640" cy="838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5" name="Picture 17" descr=""/>
          <p:cNvPicPr/>
          <p:nvPr/>
        </p:nvPicPr>
        <p:blipFill>
          <a:blip r:embed="rId9"/>
          <a:stretch/>
        </p:blipFill>
        <p:spPr>
          <a:xfrm>
            <a:off x="4572000" y="3789360"/>
            <a:ext cx="863640" cy="83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56" name="Picture 18" descr=""/>
          <p:cNvPicPr/>
          <p:nvPr/>
        </p:nvPicPr>
        <p:blipFill>
          <a:blip r:embed="rId10"/>
          <a:srcRect l="71886" t="70032" r="11570" b="11454"/>
          <a:stretch/>
        </p:blipFill>
        <p:spPr>
          <a:xfrm>
            <a:off x="4572000" y="573408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7" name="Rectangle 19"/>
          <p:cNvSpPr/>
          <p:nvPr/>
        </p:nvSpPr>
        <p:spPr>
          <a:xfrm>
            <a:off x="1187280" y="1773360"/>
            <a:ext cx="3313440" cy="48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льса на со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уд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аком по гру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однять н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651640" y="1773360"/>
            <a:ext cx="3313080" cy="48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«вдох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ть не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аж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Номер слайда 1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5842-A248-4C13-A599-6891BE11A8A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250920" y="1125360"/>
            <a:ext cx="871380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 и нет пульса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324000" y="2060640"/>
            <a:ext cx="8640720" cy="34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о контролировать пу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онной артер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как  может произой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ая остановка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Номер слайда 4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C123-DE67-4A71-B71E-D781E162A76D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rcRect l="72650" t="2163" r="10068" b="78997"/>
          <a:stretch/>
        </p:blipFill>
        <p:spPr>
          <a:xfrm>
            <a:off x="250920" y="1857240"/>
            <a:ext cx="865080" cy="82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858600" cy="87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7" name="Picture 7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858600" cy="847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8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3" descr=""/>
          <p:cNvPicPr/>
          <p:nvPr/>
        </p:nvPicPr>
        <p:blipFill>
          <a:blip r:embed="rId4"/>
          <a:srcRect l="71886" t="70032" r="11570" b="11454"/>
          <a:stretch/>
        </p:blipFill>
        <p:spPr>
          <a:xfrm>
            <a:off x="4500720" y="5373720"/>
            <a:ext cx="888840" cy="87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0" name="Picture 17" descr=""/>
          <p:cNvPicPr/>
          <p:nvPr/>
        </p:nvPicPr>
        <p:blipFill>
          <a:blip r:embed="rId5"/>
          <a:srcRect l="49140" t="3771" r="33956" b="67897"/>
          <a:stretch/>
        </p:blipFill>
        <p:spPr>
          <a:xfrm>
            <a:off x="250920" y="4292640"/>
            <a:ext cx="865080" cy="869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1" name="Picture 19" descr=""/>
          <p:cNvPicPr/>
          <p:nvPr/>
        </p:nvPicPr>
        <p:blipFill>
          <a:blip r:embed="rId6"/>
          <a:stretch/>
        </p:blipFill>
        <p:spPr>
          <a:xfrm>
            <a:off x="4643280" y="1844640"/>
            <a:ext cx="851040" cy="825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72" name="Picture 20" descr=""/>
          <p:cNvPicPr/>
          <p:nvPr/>
        </p:nvPicPr>
        <p:blipFill>
          <a:blip r:embed="rId7"/>
          <a:stretch/>
        </p:blipFill>
        <p:spPr>
          <a:xfrm>
            <a:off x="4572000" y="3645000"/>
            <a:ext cx="876240" cy="850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73" name="Rectangle 21"/>
          <p:cNvSpPr/>
          <p:nvPr/>
        </p:nvSpPr>
        <p:spPr>
          <a:xfrm>
            <a:off x="1258920" y="1773360"/>
            <a:ext cx="309708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диться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 пульс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ной ар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нут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 и очист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холод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5580000" y="1773360"/>
            <a:ext cx="3168720" cy="47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я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ь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Номер слайда 1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6DE-5CD5-4D5D-86FC-1373C69D7D03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хема действий в случаях поражения электрическим токо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нет сознания, но есть пульс на сонной ар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179280" y="1989000"/>
            <a:ext cx="8785440" cy="19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лектрических ожогах и ра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повя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переломах костей конечн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ожить ш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250920" y="4292640"/>
            <a:ext cx="864216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саться к пострадавш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предварительног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кращать реанимацион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рибытия вр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19"/>
          <p:cNvSpPr/>
          <p:nvPr/>
        </p:nvSpPr>
        <p:spPr>
          <a:xfrm>
            <a:off x="4427640" y="2852640"/>
            <a:ext cx="287280" cy="2160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0"/>
          <p:cNvSpPr/>
          <p:nvPr/>
        </p:nvSpPr>
        <p:spPr>
          <a:xfrm>
            <a:off x="4427640" y="2781360"/>
            <a:ext cx="36036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21"/>
          <p:cNvSpPr/>
          <p:nvPr/>
        </p:nvSpPr>
        <p:spPr>
          <a:xfrm>
            <a:off x="4356000" y="5300640"/>
            <a:ext cx="28908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Номер слайда 8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DEDD-4519-4C71-8254-4B55D4E7774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ниверсальная аптечка бытовая для нас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5" name="Содержимое 8" descr="бытовая аптечка.jpeg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4537080"/>
          </a:xfrm>
          <a:prstGeom prst="rect">
            <a:avLst/>
          </a:prstGeom>
          <a:ln w="0">
            <a:noFill/>
          </a:ln>
        </p:spPr>
      </p:pic>
      <p:sp>
        <p:nvSpPr>
          <p:cNvPr id="486" name="Номер слайда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2059-FA0D-4A84-822F-4806BF32E3FA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250920" y="33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ебный вопрос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40464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рвая помощ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о комплекс простейших  мероприятий, проводимых на месте поражения или вблизи от него самим пострадавшим (самопомощь) или другим лицом (взаимопомощь) с использованием табельных или подручных средств оказания пом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сновная цель первой помощ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ранение дальнейшего воздействия поражающего фактора, последствий поражения, угрожающих жизни пострадавшего и предупреждение развития опасных для жизни ослож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2610-FB9A-4366-93A5-F9B8FD614FEC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152280" y="152280"/>
            <a:ext cx="8839440" cy="45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Схема действий по определению признаков жизни пострадавше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307800" y="841320"/>
            <a:ext cx="8835840" cy="6016680"/>
            <a:chOff x="307800" y="841320"/>
            <a:chExt cx="8835840" cy="6016680"/>
          </a:xfrm>
        </p:grpSpPr>
        <p:grpSp>
          <p:nvGrpSpPr>
            <p:cNvPr id="490" name="Group 4"/>
            <p:cNvGrpSpPr/>
            <p:nvPr/>
          </p:nvGrpSpPr>
          <p:grpSpPr>
            <a:xfrm>
              <a:off x="318960" y="843120"/>
              <a:ext cx="8813520" cy="6013440"/>
              <a:chOff x="318960" y="843120"/>
              <a:chExt cx="8813520" cy="6013440"/>
            </a:xfrm>
          </p:grpSpPr>
          <p:grpSp>
            <p:nvGrpSpPr>
              <p:cNvPr id="491" name="Group 5"/>
              <p:cNvGrpSpPr/>
              <p:nvPr/>
            </p:nvGrpSpPr>
            <p:grpSpPr>
              <a:xfrm>
                <a:off x="318960" y="843120"/>
                <a:ext cx="4168800" cy="501480"/>
                <a:chOff x="318960" y="843120"/>
                <a:chExt cx="4168800" cy="501480"/>
              </a:xfrm>
            </p:grpSpPr>
            <p:sp>
              <p:nvSpPr>
                <p:cNvPr id="492" name="Rectangle 6"/>
                <p:cNvSpPr/>
                <p:nvPr/>
              </p:nvSpPr>
              <p:spPr>
                <a:xfrm>
                  <a:off x="396720" y="843120"/>
                  <a:ext cx="401292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Оценка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7"/>
                <p:cNvSpPr/>
                <p:nvPr/>
              </p:nvSpPr>
              <p:spPr>
                <a:xfrm>
                  <a:off x="318960" y="849240"/>
                  <a:ext cx="41688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8"/>
              <p:cNvGrpSpPr/>
              <p:nvPr/>
            </p:nvGrpSpPr>
            <p:grpSpPr>
              <a:xfrm>
                <a:off x="4500360" y="843120"/>
                <a:ext cx="1976400" cy="501480"/>
                <a:chOff x="4500360" y="843120"/>
                <a:chExt cx="1976400" cy="501480"/>
              </a:xfrm>
            </p:grpSpPr>
            <p:sp>
              <p:nvSpPr>
                <p:cNvPr id="495" name="Rectangle 9"/>
                <p:cNvSpPr/>
                <p:nvPr/>
              </p:nvSpPr>
              <p:spPr>
                <a:xfrm>
                  <a:off x="4578120" y="843120"/>
                  <a:ext cx="182088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Состояние 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0"/>
                <p:cNvSpPr/>
                <p:nvPr/>
              </p:nvSpPr>
              <p:spPr>
                <a:xfrm>
                  <a:off x="4500360" y="849240"/>
                  <a:ext cx="197640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1"/>
              <p:cNvGrpSpPr/>
              <p:nvPr/>
            </p:nvGrpSpPr>
            <p:grpSpPr>
              <a:xfrm>
                <a:off x="6489360" y="843120"/>
                <a:ext cx="2643120" cy="501480"/>
                <a:chOff x="6489360" y="843120"/>
                <a:chExt cx="2643120" cy="501480"/>
              </a:xfrm>
            </p:grpSpPr>
            <p:sp>
              <p:nvSpPr>
                <p:cNvPr id="498" name="Rectangle 12"/>
                <p:cNvSpPr/>
                <p:nvPr/>
              </p:nvSpPr>
              <p:spPr>
                <a:xfrm>
                  <a:off x="6567120" y="843120"/>
                  <a:ext cx="248760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00"/>
                      </a:solidFill>
                      <a:latin typeface="Times New Roman"/>
                    </a:rPr>
                    <a:t>Действия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3"/>
                <p:cNvSpPr/>
                <p:nvPr/>
              </p:nvSpPr>
              <p:spPr>
                <a:xfrm>
                  <a:off x="6489360" y="849240"/>
                  <a:ext cx="2643120" cy="4892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14"/>
              <p:cNvGrpSpPr/>
              <p:nvPr/>
            </p:nvGrpSpPr>
            <p:grpSpPr>
              <a:xfrm>
                <a:off x="318960" y="1344600"/>
                <a:ext cx="1284120" cy="979560"/>
                <a:chOff x="318960" y="1344600"/>
                <a:chExt cx="1284120" cy="979560"/>
              </a:xfrm>
            </p:grpSpPr>
            <p:sp>
              <p:nvSpPr>
                <p:cNvPr id="501" name="Rectangle 15"/>
                <p:cNvSpPr/>
                <p:nvPr/>
              </p:nvSpPr>
              <p:spPr>
                <a:xfrm>
                  <a:off x="396720" y="134460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16"/>
                <p:cNvSpPr/>
                <p:nvPr/>
              </p:nvSpPr>
              <p:spPr>
                <a:xfrm>
                  <a:off x="318960" y="135108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7"/>
              <p:cNvGrpSpPr/>
              <p:nvPr/>
            </p:nvGrpSpPr>
            <p:grpSpPr>
              <a:xfrm>
                <a:off x="1615680" y="1344600"/>
                <a:ext cx="1430640" cy="979560"/>
                <a:chOff x="1615680" y="1344600"/>
                <a:chExt cx="1430640" cy="979560"/>
              </a:xfrm>
            </p:grpSpPr>
            <p:sp>
              <p:nvSpPr>
                <p:cNvPr id="504" name="Rectangle 18"/>
                <p:cNvSpPr/>
                <p:nvPr/>
              </p:nvSpPr>
              <p:spPr>
                <a:xfrm>
                  <a:off x="1693440" y="134460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19"/>
                <p:cNvSpPr/>
                <p:nvPr/>
              </p:nvSpPr>
              <p:spPr>
                <a:xfrm>
                  <a:off x="1615680" y="135108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20"/>
              <p:cNvGrpSpPr/>
              <p:nvPr/>
            </p:nvGrpSpPr>
            <p:grpSpPr>
              <a:xfrm>
                <a:off x="3058920" y="1344600"/>
                <a:ext cx="1428840" cy="979560"/>
                <a:chOff x="3058920" y="1344600"/>
                <a:chExt cx="1428840" cy="979560"/>
              </a:xfrm>
            </p:grpSpPr>
            <p:sp>
              <p:nvSpPr>
                <p:cNvPr id="507" name="Rectangle 21"/>
                <p:cNvSpPr/>
                <p:nvPr/>
              </p:nvSpPr>
              <p:spPr>
                <a:xfrm>
                  <a:off x="3136680" y="134460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_________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22"/>
                <p:cNvSpPr/>
                <p:nvPr/>
              </p:nvSpPr>
              <p:spPr>
                <a:xfrm>
                  <a:off x="3058920" y="135108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3"/>
              <p:cNvGrpSpPr/>
              <p:nvPr/>
            </p:nvGrpSpPr>
            <p:grpSpPr>
              <a:xfrm>
                <a:off x="4500360" y="1344600"/>
                <a:ext cx="1976400" cy="979560"/>
                <a:chOff x="4500360" y="1344600"/>
                <a:chExt cx="1976400" cy="979560"/>
              </a:xfrm>
            </p:grpSpPr>
            <p:sp>
              <p:nvSpPr>
                <p:cNvPr id="510" name="Rectangle 24"/>
                <p:cNvSpPr/>
                <p:nvPr/>
              </p:nvSpPr>
              <p:spPr>
                <a:xfrm>
                  <a:off x="4578120" y="134460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гирует, но                   состояни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может ухудшаться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25"/>
                <p:cNvSpPr/>
                <p:nvPr/>
              </p:nvSpPr>
              <p:spPr>
                <a:xfrm>
                  <a:off x="4500360" y="135108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6"/>
              <p:cNvGrpSpPr/>
              <p:nvPr/>
            </p:nvGrpSpPr>
            <p:grpSpPr>
              <a:xfrm>
                <a:off x="6489360" y="1344600"/>
                <a:ext cx="2643120" cy="979560"/>
                <a:chOff x="6489360" y="1344600"/>
                <a:chExt cx="2643120" cy="979560"/>
              </a:xfrm>
            </p:grpSpPr>
            <p:sp>
              <p:nvSpPr>
                <p:cNvPr id="513" name="Rectangle 27"/>
                <p:cNvSpPr/>
                <p:nvPr/>
              </p:nvSpPr>
              <p:spPr>
                <a:xfrm>
                  <a:off x="6567120" y="134460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онтролируйте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альше состояние       пострадавшего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28"/>
                <p:cNvSpPr/>
                <p:nvPr/>
              </p:nvSpPr>
              <p:spPr>
                <a:xfrm>
                  <a:off x="6489360" y="135108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29"/>
              <p:cNvGrpSpPr/>
              <p:nvPr/>
            </p:nvGrpSpPr>
            <p:grpSpPr>
              <a:xfrm>
                <a:off x="318960" y="2324160"/>
                <a:ext cx="1284120" cy="979560"/>
                <a:chOff x="318960" y="2324160"/>
                <a:chExt cx="1284120" cy="979560"/>
              </a:xfrm>
            </p:grpSpPr>
            <p:sp>
              <p:nvSpPr>
                <p:cNvPr id="516" name="Rectangle 30"/>
                <p:cNvSpPr/>
                <p:nvPr/>
              </p:nvSpPr>
              <p:spPr>
                <a:xfrm>
                  <a:off x="396720" y="2324160"/>
                  <a:ext cx="1128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31"/>
                <p:cNvSpPr/>
                <p:nvPr/>
              </p:nvSpPr>
              <p:spPr>
                <a:xfrm>
                  <a:off x="318960" y="2330640"/>
                  <a:ext cx="1284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32"/>
              <p:cNvGrpSpPr/>
              <p:nvPr/>
            </p:nvGrpSpPr>
            <p:grpSpPr>
              <a:xfrm>
                <a:off x="1615680" y="2324160"/>
                <a:ext cx="1430640" cy="979560"/>
                <a:chOff x="1615680" y="2324160"/>
                <a:chExt cx="1430640" cy="979560"/>
              </a:xfrm>
            </p:grpSpPr>
            <p:sp>
              <p:nvSpPr>
                <p:cNvPr id="519" name="Rectangle 33"/>
                <p:cNvSpPr/>
                <p:nvPr/>
              </p:nvSpPr>
              <p:spPr>
                <a:xfrm>
                  <a:off x="1693440" y="2324160"/>
                  <a:ext cx="12747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34"/>
                <p:cNvSpPr/>
                <p:nvPr/>
              </p:nvSpPr>
              <p:spPr>
                <a:xfrm>
                  <a:off x="1615680" y="2330640"/>
                  <a:ext cx="14306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35"/>
              <p:cNvGrpSpPr/>
              <p:nvPr/>
            </p:nvGrpSpPr>
            <p:grpSpPr>
              <a:xfrm>
                <a:off x="3058920" y="2324160"/>
                <a:ext cx="1428840" cy="979560"/>
                <a:chOff x="3058920" y="2324160"/>
                <a:chExt cx="1428840" cy="979560"/>
              </a:xfrm>
            </p:grpSpPr>
            <p:sp>
              <p:nvSpPr>
                <p:cNvPr id="522" name="Rectangle 36"/>
                <p:cNvSpPr/>
                <p:nvPr/>
              </p:nvSpPr>
              <p:spPr>
                <a:xfrm>
                  <a:off x="3136680" y="2324160"/>
                  <a:ext cx="127296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37"/>
                <p:cNvSpPr/>
                <p:nvPr/>
              </p:nvSpPr>
              <p:spPr>
                <a:xfrm>
                  <a:off x="3058920" y="2330640"/>
                  <a:ext cx="142884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8"/>
              <p:cNvGrpSpPr/>
              <p:nvPr/>
            </p:nvGrpSpPr>
            <p:grpSpPr>
              <a:xfrm>
                <a:off x="4500360" y="2324160"/>
                <a:ext cx="1976400" cy="979560"/>
                <a:chOff x="4500360" y="2324160"/>
                <a:chExt cx="1976400" cy="979560"/>
              </a:xfrm>
            </p:grpSpPr>
            <p:sp>
              <p:nvSpPr>
                <p:cNvPr id="525" name="Rectangle 39"/>
                <p:cNvSpPr/>
                <p:nvPr/>
              </p:nvSpPr>
              <p:spPr>
                <a:xfrm>
                  <a:off x="4578120" y="2324160"/>
                  <a:ext cx="182088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и нет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0"/>
                <p:cNvSpPr/>
                <p:nvPr/>
              </p:nvSpPr>
              <p:spPr>
                <a:xfrm>
                  <a:off x="4500360" y="2330640"/>
                  <a:ext cx="197640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41"/>
              <p:cNvGrpSpPr/>
              <p:nvPr/>
            </p:nvGrpSpPr>
            <p:grpSpPr>
              <a:xfrm>
                <a:off x="6489360" y="2324160"/>
                <a:ext cx="2643120" cy="979560"/>
                <a:chOff x="6489360" y="2324160"/>
                <a:chExt cx="2643120" cy="979560"/>
              </a:xfrm>
            </p:grpSpPr>
            <p:sp>
              <p:nvSpPr>
                <p:cNvPr id="528" name="Rectangle 42"/>
                <p:cNvSpPr/>
                <p:nvPr/>
              </p:nvSpPr>
              <p:spPr>
                <a:xfrm>
                  <a:off x="6567120" y="2324160"/>
                  <a:ext cx="248760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10800" bIns="10800" anchor="b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- 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Вторичный осмотр.    -Восстановительное                                                                              положение.                      - Звоните «03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3"/>
                <p:cNvSpPr/>
                <p:nvPr/>
              </p:nvSpPr>
              <p:spPr>
                <a:xfrm>
                  <a:off x="6489360" y="2330640"/>
                  <a:ext cx="2643120" cy="9666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44"/>
              <p:cNvGrpSpPr/>
              <p:nvPr/>
            </p:nvGrpSpPr>
            <p:grpSpPr>
              <a:xfrm>
                <a:off x="318960" y="3303720"/>
                <a:ext cx="1284120" cy="1776240"/>
                <a:chOff x="318960" y="3303720"/>
                <a:chExt cx="1284120" cy="1776240"/>
              </a:xfrm>
            </p:grpSpPr>
            <p:sp>
              <p:nvSpPr>
                <p:cNvPr id="531" name="Rectangle 45"/>
                <p:cNvSpPr/>
                <p:nvPr/>
              </p:nvSpPr>
              <p:spPr>
                <a:xfrm>
                  <a:off x="396720" y="3303720"/>
                  <a:ext cx="1128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46"/>
                <p:cNvSpPr/>
                <p:nvPr/>
              </p:nvSpPr>
              <p:spPr>
                <a:xfrm>
                  <a:off x="318960" y="331020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47"/>
              <p:cNvGrpSpPr/>
              <p:nvPr/>
            </p:nvGrpSpPr>
            <p:grpSpPr>
              <a:xfrm>
                <a:off x="1615680" y="3303720"/>
                <a:ext cx="1430640" cy="1776240"/>
                <a:chOff x="1615680" y="3303720"/>
                <a:chExt cx="1430640" cy="1776240"/>
              </a:xfrm>
            </p:grpSpPr>
            <p:sp>
              <p:nvSpPr>
                <p:cNvPr id="534" name="Rectangle 48"/>
                <p:cNvSpPr/>
                <p:nvPr/>
              </p:nvSpPr>
              <p:spPr>
                <a:xfrm>
                  <a:off x="1693440" y="3303720"/>
                  <a:ext cx="12747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49"/>
                <p:cNvSpPr/>
                <p:nvPr/>
              </p:nvSpPr>
              <p:spPr>
                <a:xfrm>
                  <a:off x="1615680" y="331020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50"/>
              <p:cNvGrpSpPr/>
              <p:nvPr/>
            </p:nvGrpSpPr>
            <p:grpSpPr>
              <a:xfrm>
                <a:off x="3058920" y="3303720"/>
                <a:ext cx="1428840" cy="1776240"/>
                <a:chOff x="3058920" y="3303720"/>
                <a:chExt cx="1428840" cy="1776240"/>
              </a:xfrm>
            </p:grpSpPr>
            <p:sp>
              <p:nvSpPr>
                <p:cNvPr id="537" name="Rectangle 51"/>
                <p:cNvSpPr/>
                <p:nvPr/>
              </p:nvSpPr>
              <p:spPr>
                <a:xfrm>
                  <a:off x="3136680" y="3303720"/>
                  <a:ext cx="127296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есть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52"/>
                <p:cNvSpPr/>
                <p:nvPr/>
              </p:nvSpPr>
              <p:spPr>
                <a:xfrm>
                  <a:off x="3058920" y="331020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53"/>
              <p:cNvGrpSpPr/>
              <p:nvPr/>
            </p:nvGrpSpPr>
            <p:grpSpPr>
              <a:xfrm>
                <a:off x="4500360" y="3303720"/>
                <a:ext cx="1976400" cy="1776240"/>
                <a:chOff x="4500360" y="3303720"/>
                <a:chExt cx="1976400" cy="1776240"/>
              </a:xfrm>
            </p:grpSpPr>
            <p:sp>
              <p:nvSpPr>
                <p:cNvPr id="540" name="Rectangle 54"/>
                <p:cNvSpPr/>
                <p:nvPr/>
              </p:nvSpPr>
              <p:spPr>
                <a:xfrm>
                  <a:off x="4578120" y="3303720"/>
                  <a:ext cx="182088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я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  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55"/>
                <p:cNvSpPr/>
                <p:nvPr/>
              </p:nvSpPr>
              <p:spPr>
                <a:xfrm>
                  <a:off x="4500360" y="331020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6"/>
              <p:cNvGrpSpPr/>
              <p:nvPr/>
            </p:nvGrpSpPr>
            <p:grpSpPr>
              <a:xfrm>
                <a:off x="6489360" y="3303720"/>
                <a:ext cx="2643120" cy="1776240"/>
                <a:chOff x="6489360" y="3303720"/>
                <a:chExt cx="2643120" cy="1776240"/>
              </a:xfrm>
            </p:grpSpPr>
            <p:sp>
              <p:nvSpPr>
                <p:cNvPr id="543" name="Rectangle 57"/>
                <p:cNvSpPr/>
                <p:nvPr/>
              </p:nvSpPr>
              <p:spPr>
                <a:xfrm>
                  <a:off x="6567120" y="3303720"/>
                  <a:ext cx="2487600" cy="17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0" bIns="46080" anchor="ctr">
                  <a:no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Искусственная вентиляция легких.     -  -Звоните "03”.                 - Продолжайте проводить ИВЛ.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58"/>
                <p:cNvSpPr/>
                <p:nvPr/>
              </p:nvSpPr>
              <p:spPr>
                <a:xfrm>
                  <a:off x="6489360" y="331020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59"/>
              <p:cNvGrpSpPr/>
              <p:nvPr/>
            </p:nvGrpSpPr>
            <p:grpSpPr>
              <a:xfrm>
                <a:off x="318960" y="5079960"/>
                <a:ext cx="1284120" cy="1776600"/>
                <a:chOff x="318960" y="5079960"/>
                <a:chExt cx="1284120" cy="1776600"/>
              </a:xfrm>
            </p:grpSpPr>
            <p:sp>
              <p:nvSpPr>
                <p:cNvPr id="546" name="Rectangle 60"/>
                <p:cNvSpPr/>
                <p:nvPr/>
              </p:nvSpPr>
              <p:spPr>
                <a:xfrm>
                  <a:off x="396720" y="5079960"/>
                  <a:ext cx="1128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Реакция    нет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61"/>
                <p:cNvSpPr/>
                <p:nvPr/>
              </p:nvSpPr>
              <p:spPr>
                <a:xfrm>
                  <a:off x="318960" y="5086440"/>
                  <a:ext cx="1284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62"/>
              <p:cNvGrpSpPr/>
              <p:nvPr/>
            </p:nvGrpSpPr>
            <p:grpSpPr>
              <a:xfrm>
                <a:off x="1615680" y="5079960"/>
                <a:ext cx="1430640" cy="1776600"/>
                <a:chOff x="1615680" y="5079960"/>
                <a:chExt cx="1430640" cy="1776600"/>
              </a:xfrm>
            </p:grpSpPr>
            <p:sp>
              <p:nvSpPr>
                <p:cNvPr id="549" name="Rectangle 63"/>
                <p:cNvSpPr/>
                <p:nvPr/>
              </p:nvSpPr>
              <p:spPr>
                <a:xfrm>
                  <a:off x="1693440" y="5079960"/>
                  <a:ext cx="12747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Дыхание 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64"/>
                <p:cNvSpPr/>
                <p:nvPr/>
              </p:nvSpPr>
              <p:spPr>
                <a:xfrm>
                  <a:off x="1615680" y="5086440"/>
                  <a:ext cx="14306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65"/>
              <p:cNvGrpSpPr/>
              <p:nvPr/>
            </p:nvGrpSpPr>
            <p:grpSpPr>
              <a:xfrm>
                <a:off x="3058920" y="5079960"/>
                <a:ext cx="1428840" cy="1776600"/>
                <a:chOff x="3058920" y="5079960"/>
                <a:chExt cx="1428840" cy="1776600"/>
              </a:xfrm>
            </p:grpSpPr>
            <p:sp>
              <p:nvSpPr>
                <p:cNvPr id="552" name="Rectangle 66"/>
                <p:cNvSpPr/>
                <p:nvPr/>
              </p:nvSpPr>
              <p:spPr>
                <a:xfrm>
                  <a:off x="3136680" y="5079960"/>
                  <a:ext cx="127296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Пульс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ет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67"/>
                <p:cNvSpPr/>
                <p:nvPr/>
              </p:nvSpPr>
              <p:spPr>
                <a:xfrm>
                  <a:off x="3058920" y="5086440"/>
                  <a:ext cx="142884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68"/>
              <p:cNvGrpSpPr/>
              <p:nvPr/>
            </p:nvGrpSpPr>
            <p:grpSpPr>
              <a:xfrm>
                <a:off x="4500360" y="5079960"/>
                <a:ext cx="1976400" cy="1776600"/>
                <a:chOff x="4500360" y="5079960"/>
                <a:chExt cx="1976400" cy="1776600"/>
              </a:xfrm>
            </p:grpSpPr>
            <p:sp>
              <p:nvSpPr>
                <p:cNvPr id="555" name="Rectangle 69"/>
                <p:cNvSpPr/>
                <p:nvPr/>
              </p:nvSpPr>
              <p:spPr>
                <a:xfrm>
                  <a:off x="4578120" y="5079960"/>
                  <a:ext cx="182088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Кровообраще-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ния нет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70"/>
                <p:cNvSpPr/>
                <p:nvPr/>
              </p:nvSpPr>
              <p:spPr>
                <a:xfrm>
                  <a:off x="4500360" y="5086440"/>
                  <a:ext cx="197640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71"/>
              <p:cNvGrpSpPr/>
              <p:nvPr/>
            </p:nvGrpSpPr>
            <p:grpSpPr>
              <a:xfrm>
                <a:off x="6489360" y="5079960"/>
                <a:ext cx="2643120" cy="1776600"/>
                <a:chOff x="6489360" y="5079960"/>
                <a:chExt cx="2643120" cy="1776600"/>
              </a:xfrm>
            </p:grpSpPr>
            <p:sp>
              <p:nvSpPr>
                <p:cNvPr id="558" name="Rectangle 72"/>
                <p:cNvSpPr/>
                <p:nvPr/>
              </p:nvSpPr>
              <p:spPr>
                <a:xfrm>
                  <a:off x="6567120" y="5079960"/>
                  <a:ext cx="2487600" cy="177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1600" rIns="21600" tIns="36000" bIns="1080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r>
                    <a:rPr b="1" lang="ru-RU" sz="1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imes New Roman"/>
                    </a:rPr>
                    <a:t>Сердечно-легочная   реанимация                    - Звоните "03“                - Продолжайте проводить сердечно-легочную  реанимацию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73"/>
                <p:cNvSpPr/>
                <p:nvPr/>
              </p:nvSpPr>
              <p:spPr>
                <a:xfrm>
                  <a:off x="6489360" y="5086440"/>
                  <a:ext cx="2643120" cy="17636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" name="Rectangle 74"/>
            <p:cNvSpPr/>
            <p:nvPr/>
          </p:nvSpPr>
          <p:spPr>
            <a:xfrm>
              <a:off x="307800" y="841320"/>
              <a:ext cx="8835840" cy="601668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75"/>
          <p:cNvSpPr/>
          <p:nvPr/>
        </p:nvSpPr>
        <p:spPr>
          <a:xfrm>
            <a:off x="3240" y="6900840"/>
            <a:ext cx="9144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Номер слайда 7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C39-B06C-4655-A84C-D445F2C36E47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1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495F-A3B3-4DF5-8E56-1A77179243B9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79280" y="184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Перечень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468360" y="2492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тсутствие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Остановка дыхания и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ружные 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нородные тела верхних дыхательных пу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Травмы различных областей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Отморожение и другие эффекты воздействия низких температ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т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0" y="260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79280" y="0"/>
            <a:ext cx="896472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аз Минздравсоцразвития России от 04.05.2012  № 477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Об утверждении перечня состояний, при которых оказывается ПП, и перечня мероприятий по оказанию ПП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ед. от 07.11.20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еречень мероприятий по оказанию первой помощ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Мероприятия по оценке обстановки и обеспечению безопасных условий для оказания 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по закону или специальному прави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пределение наличия сознания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роприятия по восстановлению проходимости дыхательных путей и определению признаков жизни у пострадавш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Мероприятия по проведению сердечно-легочной реанимации до  появления признаков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ероприятия по поддержанию проходимости дыхательных пу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Мероприятия по обзорному осмотру пострадавшего и временной остановке наружного крово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Мероприятия по подробному осмотру пострадавшего в целях выявления признаков травм, отравлений и др. состояний, угрожающих его жизни и здоровью, и по оказанию ПП в этих случа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Придание пострадавшему оптимального положения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онтроль состояния пострадавшего и оказание психологической 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Передача пострадавшего бригаде скорой мед. помощи, др.спец. служб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9EB5-9DFC-46B0-AC44-5FD45205D736}" type="slidenum"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55"/>
            </a:gs>
            <a:gs pos="100000">
              <a:srgbClr val="008080"/>
            </a:gs>
          </a:gsLst>
          <a:lin ang="6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8"/>
          <p:cNvSpPr/>
          <p:nvPr/>
        </p:nvSpPr>
        <p:spPr>
          <a:xfrm>
            <a:off x="682560" y="2349360"/>
            <a:ext cx="21607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Текстовое поле 1"/>
          <p:cNvSpPr/>
          <p:nvPr/>
        </p:nvSpPr>
        <p:spPr>
          <a:xfrm>
            <a:off x="250920" y="44280"/>
            <a:ext cx="85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лгоритм оказания первой неотложной 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Ромб 2"/>
          <p:cNvSpPr/>
          <p:nvPr/>
        </p:nvSpPr>
        <p:spPr>
          <a:xfrm>
            <a:off x="3157560" y="398520"/>
            <a:ext cx="2565360" cy="11271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Текстовое поле 3"/>
          <p:cNvSpPr/>
          <p:nvPr/>
        </p:nvSpPr>
        <p:spPr>
          <a:xfrm>
            <a:off x="3492360" y="69228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адавш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знан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Ромб 4"/>
          <p:cNvSpPr/>
          <p:nvPr/>
        </p:nvSpPr>
        <p:spPr>
          <a:xfrm>
            <a:off x="466560" y="1123920"/>
            <a:ext cx="2590920" cy="7509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Текстовое поле 5"/>
          <p:cNvSpPr/>
          <p:nvPr/>
        </p:nvSpPr>
        <p:spPr>
          <a:xfrm>
            <a:off x="755640" y="1339920"/>
            <a:ext cx="21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ульс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Текстовое поле 6"/>
          <p:cNvSpPr/>
          <p:nvPr/>
        </p:nvSpPr>
        <p:spPr>
          <a:xfrm>
            <a:off x="682560" y="242100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Реаним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Ромб 9"/>
          <p:cNvSpPr/>
          <p:nvPr/>
        </p:nvSpPr>
        <p:spPr>
          <a:xfrm>
            <a:off x="4282920" y="1771560"/>
            <a:ext cx="2590920" cy="9828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Ромб 10"/>
          <p:cNvSpPr/>
          <p:nvPr/>
        </p:nvSpPr>
        <p:spPr>
          <a:xfrm>
            <a:off x="5796000" y="2852640"/>
            <a:ext cx="2722680" cy="9493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1116000" y="3213000"/>
            <a:ext cx="284328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2"/>
          <p:cNvSpPr/>
          <p:nvPr/>
        </p:nvSpPr>
        <p:spPr>
          <a:xfrm>
            <a:off x="1469880" y="4076640"/>
            <a:ext cx="353880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5991120" y="4149720"/>
            <a:ext cx="2525760" cy="11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4"/>
          <p:cNvSpPr/>
          <p:nvPr/>
        </p:nvSpPr>
        <p:spPr>
          <a:xfrm>
            <a:off x="1444680" y="5013360"/>
            <a:ext cx="355896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3848040" y="5951520"/>
            <a:ext cx="3498840" cy="81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Текстовое поле 16"/>
          <p:cNvSpPr/>
          <p:nvPr/>
        </p:nvSpPr>
        <p:spPr>
          <a:xfrm>
            <a:off x="4500720" y="1916280"/>
            <a:ext cx="21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кровотеч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Текстовое поле 17"/>
          <p:cNvSpPr/>
          <p:nvPr/>
        </p:nvSpPr>
        <p:spPr>
          <a:xfrm>
            <a:off x="6156360" y="3139920"/>
            <a:ext cx="21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ли переломы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Текстовое поле 18"/>
          <p:cNvSpPr/>
          <p:nvPr/>
        </p:nvSpPr>
        <p:spPr>
          <a:xfrm>
            <a:off x="1116000" y="33559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Остановка кровот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Текстовое поле 19"/>
          <p:cNvSpPr/>
          <p:nvPr/>
        </p:nvSpPr>
        <p:spPr>
          <a:xfrm>
            <a:off x="1503360" y="4221000"/>
            <a:ext cx="34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Текстовое поле 20"/>
          <p:cNvSpPr/>
          <p:nvPr/>
        </p:nvSpPr>
        <p:spPr>
          <a:xfrm>
            <a:off x="1835280" y="5156280"/>
            <a:ext cx="30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Фиксация мест перелом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Текстовое поле 21"/>
          <p:cNvSpPr/>
          <p:nvPr/>
        </p:nvSpPr>
        <p:spPr>
          <a:xfrm>
            <a:off x="5970600" y="4292640"/>
            <a:ext cx="263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тивошоков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(при необходимост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Текстовое поле 22"/>
          <p:cNvSpPr/>
          <p:nvPr/>
        </p:nvSpPr>
        <p:spPr>
          <a:xfrm>
            <a:off x="3851280" y="6165720"/>
            <a:ext cx="34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очие меры оказания помощ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Прямая со стрелкой 23"/>
          <p:cNvCxnSpPr/>
          <p:nvPr/>
        </p:nvCxnSpPr>
        <p:spPr>
          <a:xfrm flipH="1">
            <a:off x="2555640" y="1123920"/>
            <a:ext cx="1080000" cy="2167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61" name="Прямая со стрелкой 25" descr=""/>
          <p:cNvPicPr/>
          <p:nvPr/>
        </p:nvPicPr>
        <p:blipFill>
          <a:blip r:embed="rId1"/>
          <a:stretch/>
        </p:blipFill>
        <p:spPr>
          <a:xfrm>
            <a:off x="4856040" y="1305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ая со стрелкой 26" descr=""/>
          <p:cNvPicPr/>
          <p:nvPr/>
        </p:nvPicPr>
        <p:blipFill>
          <a:blip r:embed="rId2"/>
          <a:stretch/>
        </p:blipFill>
        <p:spPr>
          <a:xfrm>
            <a:off x="7521480" y="353700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 стрелкой 27" descr=""/>
          <p:cNvPicPr/>
          <p:nvPr/>
        </p:nvPicPr>
        <p:blipFill>
          <a:blip r:embed="rId3"/>
          <a:stretch/>
        </p:blipFill>
        <p:spPr>
          <a:xfrm>
            <a:off x="2770200" y="882720"/>
            <a:ext cx="1782720" cy="18828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ая со стрелкой 28" descr=""/>
          <p:cNvPicPr/>
          <p:nvPr/>
        </p:nvPicPr>
        <p:blipFill>
          <a:blip r:embed="rId4"/>
          <a:stretch/>
        </p:blipFill>
        <p:spPr>
          <a:xfrm>
            <a:off x="6153120" y="2457360"/>
            <a:ext cx="517680" cy="6350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ая со стрелкой 29" descr=""/>
          <p:cNvPicPr/>
          <p:nvPr/>
        </p:nvPicPr>
        <p:blipFill>
          <a:blip r:embed="rId5"/>
          <a:stretch/>
        </p:blipFill>
        <p:spPr>
          <a:xfrm>
            <a:off x="1711440" y="1128600"/>
            <a:ext cx="128520" cy="6145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ая со стрелкой 30" descr=""/>
          <p:cNvPicPr/>
          <p:nvPr/>
        </p:nvPicPr>
        <p:blipFill>
          <a:blip r:embed="rId6"/>
          <a:stretch/>
        </p:blipFill>
        <p:spPr>
          <a:xfrm>
            <a:off x="2857680" y="1635120"/>
            <a:ext cx="1823760" cy="1704960"/>
          </a:xfrm>
          <a:prstGeom prst="rect">
            <a:avLst/>
          </a:prstGeom>
          <a:ln w="0">
            <a:noFill/>
          </a:ln>
        </p:spPr>
      </p:pic>
      <p:cxnSp>
        <p:nvCxnSpPr>
          <p:cNvPr id="267" name="Прямая со стрелкой 1"/>
          <p:cNvCxnSpPr/>
          <p:nvPr/>
        </p:nvCxnSpPr>
        <p:spPr>
          <a:xfrm flipH="1">
            <a:off x="3492000" y="2708280"/>
            <a:ext cx="1944000" cy="50544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8" name="Прямая со стрелкой 5"/>
          <p:cNvCxnSpPr/>
          <p:nvPr/>
        </p:nvCxnSpPr>
        <p:spPr>
          <a:xfrm flipH="1">
            <a:off x="4571640" y="3573360"/>
            <a:ext cx="1944000" cy="50400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9" name="Прямая со стрелкой 6"/>
          <p:cNvCxnSpPr>
            <a:stCxn id="258" idx="2"/>
          </p:cNvCxnSpPr>
          <p:nvPr/>
        </p:nvCxnSpPr>
        <p:spPr>
          <a:xfrm flipH="1">
            <a:off x="6011280" y="5358960"/>
            <a:ext cx="1275480" cy="591120"/>
          </a:xfrm>
          <a:prstGeom prst="straightConnector1">
            <a:avLst/>
          </a:prstGeom>
          <a:ln w="44280">
            <a:solidFill>
              <a:srgbClr val="ffffff"/>
            </a:solidFill>
            <a:round/>
            <a:tailEnd len="med" type="triangle" w="med"/>
          </a:ln>
        </p:spPr>
      </p:cxnSp>
      <p:pic>
        <p:nvPicPr>
          <p:cNvPr id="270" name="Прямая со стрелкой 7" descr=""/>
          <p:cNvPicPr/>
          <p:nvPr/>
        </p:nvPicPr>
        <p:blipFill>
          <a:blip r:embed="rId7"/>
          <a:stretch/>
        </p:blipFill>
        <p:spPr>
          <a:xfrm>
            <a:off x="2879640" y="3151080"/>
            <a:ext cx="125640" cy="4730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ая со стрелкой 17" descr=""/>
          <p:cNvPicPr/>
          <p:nvPr/>
        </p:nvPicPr>
        <p:blipFill>
          <a:blip r:embed="rId8"/>
          <a:stretch/>
        </p:blipFill>
        <p:spPr>
          <a:xfrm>
            <a:off x="4172040" y="5603760"/>
            <a:ext cx="466560" cy="309600"/>
          </a:xfrm>
          <a:prstGeom prst="rect">
            <a:avLst/>
          </a:prstGeom>
          <a:ln w="0">
            <a:noFill/>
          </a:ln>
        </p:spPr>
      </p:pic>
      <p:sp>
        <p:nvSpPr>
          <p:cNvPr id="272" name="Текстовое поле 18"/>
          <p:cNvSpPr/>
          <p:nvPr/>
        </p:nvSpPr>
        <p:spPr>
          <a:xfrm>
            <a:off x="5003640" y="1268280"/>
            <a:ext cx="4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Текстовое поле 19"/>
          <p:cNvSpPr/>
          <p:nvPr/>
        </p:nvSpPr>
        <p:spPr>
          <a:xfrm>
            <a:off x="2700360" y="1628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Текстовое поле 20"/>
          <p:cNvSpPr/>
          <p:nvPr/>
        </p:nvSpPr>
        <p:spPr>
          <a:xfrm>
            <a:off x="4645080" y="249228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Текстовое поле 21"/>
          <p:cNvSpPr/>
          <p:nvPr/>
        </p:nvSpPr>
        <p:spPr>
          <a:xfrm>
            <a:off x="6156360" y="3645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Текстовое поле 22"/>
          <p:cNvSpPr/>
          <p:nvPr/>
        </p:nvSpPr>
        <p:spPr>
          <a:xfrm>
            <a:off x="2700360" y="90792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Текстовое поле 24"/>
          <p:cNvSpPr/>
          <p:nvPr/>
        </p:nvSpPr>
        <p:spPr>
          <a:xfrm>
            <a:off x="1260360" y="184464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Текстовое поле 31"/>
          <p:cNvSpPr/>
          <p:nvPr/>
        </p:nvSpPr>
        <p:spPr>
          <a:xfrm>
            <a:off x="6372360" y="242100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Текстовое поле 32"/>
          <p:cNvSpPr/>
          <p:nvPr/>
        </p:nvSpPr>
        <p:spPr>
          <a:xfrm>
            <a:off x="7812000" y="3573360"/>
            <a:ext cx="4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Прямая со стрелкой 33" descr=""/>
          <p:cNvPicPr/>
          <p:nvPr/>
        </p:nvPicPr>
        <p:blipFill>
          <a:blip r:embed="rId9"/>
          <a:stretch/>
        </p:blipFill>
        <p:spPr>
          <a:xfrm>
            <a:off x="4022640" y="3147840"/>
            <a:ext cx="1847880" cy="40968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ая со стрелкой 3" descr=""/>
          <p:cNvPicPr/>
          <p:nvPr/>
        </p:nvPicPr>
        <p:blipFill>
          <a:blip r:embed="rId10"/>
          <a:stretch/>
        </p:blipFill>
        <p:spPr>
          <a:xfrm>
            <a:off x="3014640" y="4116240"/>
            <a:ext cx="12528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7:19:36Z</dcterms:created>
  <dc:creator/>
  <dc:description/>
  <dc:language>en-US</dc:language>
  <cp:lastModifiedBy>Lenovo</cp:lastModifiedBy>
  <dcterms:modified xsi:type="dcterms:W3CDTF">2020-12-25T08:25:23Z</dcterms:modified>
  <cp:revision>3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747</vt:lpwstr>
  </property>
</Properties>
</file>